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EE7-B3B0-4873-A2DA-4C15B9B7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0A8B-0480-4037-8481-D52C309D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45C0-6925-4B7F-B96D-AEBCCDB4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9D4-A7F8-412E-9B88-58441BFB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01F2-EDDC-4670-A9E3-03A78778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E9BB-8DA3-44BB-873B-409AF5CD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D7DF-77D1-4307-A998-4D275943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E679-8BA1-4DF8-A466-3F3681D9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DA87-2297-4377-8D95-57CB9A30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256B-5135-4AED-9D13-DB82A45A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1ADE-098D-4F44-B2BA-E973BF98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3FC-9B00-4A8C-AB1F-4D02293B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C4DB-4BC1-448F-A0E3-8FF28CB5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8F0C-9842-4329-91E9-C234472B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5E10-0BB5-4C4D-B80B-85C09ED6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B78F-51DA-4AF1-8F3C-F9AF34A5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B38C-BD61-4556-8BA6-5F25244E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12F9-BCE2-4EC9-AF09-64D4BF6F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4C7-E84F-4A17-A92D-91FA9018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225A-F191-471F-8EC1-38C5E7CB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EF1-CC65-4B42-A312-2119D6D1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7EB7-0014-4761-BF38-118B9833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5CA2-47A0-4C5A-AA93-68CEC457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77E-197D-468F-B764-EFA5AFE3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4452-92BC-412F-8394-CD35D88C4C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5E74-CC55-4507-8E2D-A9D69A055A2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Las empresas de Trabajo Tempor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Aquella cuya actividad consiste en poner a disposición de otra empresa usuaria, con carácter temporal, a trabajadores contratados por ella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Las empresas de trabajo temporal han de ser autorizadas por la autoridad laboral, que les exige una serie de condiciones de seriedad publicidad y dedicación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uando se trabaja a través de una ETT se da la peculiaridad de que, a pesar de que el empresario o empleador es la ETT ( y por tanto es quien está obligado a pagar el salario y a darle de alta en la Seguridad Social), el trabajador presta servicios temporales para la empresa usuaria, que, a su vez, ha celebrado un contrato con la ETT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Verdana"/>
              </a:rPr>
              <a:t>En definitiva en el trabajo por medio de la ETT hay dos relaciones contractuales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* El contrato de puesta a disposición, que liga a la empresa usuaria y a la ETT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* El contrato de trabajo que liga el trabajador y la ETT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56000" y="549360"/>
            <a:ext cx="36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765000"/>
            <a:ext cx="3816360" cy="3682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MPRESA DE TRABAJO TEMPORA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6372360" y="2349360"/>
            <a:ext cx="1655640" cy="642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NTRATO DE TRABAJ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6516720" y="4005360"/>
            <a:ext cx="165564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abajado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24922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2421000"/>
            <a:ext cx="1871640" cy="916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NTRATO DE PUESTA A DISPOSI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41385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3933720"/>
            <a:ext cx="172908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mpresa usuari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2987640" y="5589720"/>
            <a:ext cx="30970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restación de actividad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6588000" y="112536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7308720" y="1125360"/>
            <a:ext cx="0" cy="1224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997360"/>
            <a:ext cx="0" cy="936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4437000"/>
            <a:ext cx="0" cy="1440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084720" y="5805360"/>
            <a:ext cx="122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547640" y="1052640"/>
            <a:ext cx="1224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1052640"/>
            <a:ext cx="0" cy="1296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3357720"/>
            <a:ext cx="0" cy="718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1547640" y="4797360"/>
            <a:ext cx="0" cy="1079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5805360"/>
            <a:ext cx="1440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4221000"/>
            <a:ext cx="8636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413856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Poder de direcció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500720" y="1413000"/>
            <a:ext cx="0" cy="647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220500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Poder Sancionado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RECHOS DEL TRABAJADOR EN LA ET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a ETT es la empresa obligada a la realización del contrato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l trabajador tendrá derecho a recibir el salario que, como mínimo, le correspondiera en la empresa usuaria. Se incluirá la indemnización equivalente a </a:t>
            </a:r>
            <a:r>
              <a:rPr b="1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la parte proporcional de 12 días de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salario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por cada año de servicio  o la establecida en su caso a la finalización de los contrato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a ETT será la responsable de cumplir las obligaciones de Seguridad Social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a ETT será responsable de la formación en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teria de prevención de riesgos laborale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erá nula toda cláusula que obligue al trabajador a pagar a la empresa de trabajo temporal cualquier cantidad a título de gasto de selección, formación o contratació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RECHOS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N LA EMPRESA USUARIA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La empresa usuaria es la obligada a informar al trabajador sobre los riesgos laborales y a establecer las medidas de protección correspondient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Será responsable subsidiaria de las obligaciones salariales y de seguridad social, así como en las obligaciones derivadas de la extinción del contrato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Los trabajadores podrán establecer reclamaciones a través de los órganos de representación de la empresa usuaria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Los trabajadores podrán utilizar todas las instalaciones de la empresa usuaria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Garantizarán la igualdad de trato entre los trabajadores cedidos y los de la usuaria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Informar al trabajador cedido de los puestos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vacantes en la empresa usuar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Derecho del trabajador a desarrollar de forma real las tareas para las cuales fue contratado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partir de 1/4/2011 podrán celebrarse contratos de puesta a disposición en las actividades peligrosas (minería, industrias extractivas por sondeos, plataformas marinas, explosivos y alta tensión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partir de 1/1/2011 se suprimen todas las limitaciones para la celebración de contratos de puesta a disposición por las ETT, incluidos contratos con las Administraciones Públicas (excepto tareas que por ley se reserven a funcionario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9640" y="333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Políticas de empleo y Agencias de coloc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052640"/>
            <a:ext cx="882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Nueva definición de intermediación laboral.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Es el conjunto de acciones que tienen por objeto poner en contacto a las empresas con los trabajadores que buscan un empleo. La intermediación laboral tiene como finalidad proporcionar a los trabajadores un empleo adecuado a sus características y facilitar a los empresarios los trabajadores más apropiados a sus necesidades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ambién se considera intermediación laboral la actividad destinada a la recolocación de los trabajadores que resulten excedentes en procesos de reestructuración empresaria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16000" y="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gencias de coloc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836640"/>
            <a:ext cx="889308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25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as agencias de colocación son aquellas entidades públicas o privadas, con o sin ánimo de lucro, que realicen actividades de intermediación laboral, como colaboradores de los Servicios Públicos de empleo, bien de forma autónoma pero coordinada con los mismos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4680" indent="-274680">
              <a:spcBef>
                <a:spcPts val="125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alizarán actividades relacionadas con la búsqueda de empleo, como orientación e información profesional y selección de personal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 pueden cobrar a los trabajadores por sus servicios de intermediació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quisitos de autorización del servicio público de emple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laboración con los servicios públicos de empleo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rvicio de carácter público, independientemente del agente que realice la intermediación laboral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utorización del Servicio Público de Empleo Estatal para actuar en distintas CCA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74680" indent="-274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7:47:46Z</dcterms:created>
  <dc:creator>Acer Aspire</dc:creator>
  <dc:description/>
  <dc:language>en-US</dc:language>
  <cp:lastModifiedBy>Acer Aspire</cp:lastModifiedBy>
  <dcterms:modified xsi:type="dcterms:W3CDTF">2010-11-10T23:12:35Z</dcterms:modified>
  <cp:revision>25</cp:revision>
  <dc:subject/>
  <dc:title>Diapositiva 1</dc:title>
</cp:coreProperties>
</file>